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273-6E3E-48F2-8B92-3BF59AB4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327-F346-4D6C-B859-C72AE9FA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1F1-2E7B-47B9-B912-333AFC59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00D-378C-4064-8B09-212F6F38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CF80-2A01-497F-9B4C-0E517EB2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956A-EE66-45DB-BDD0-9EED019E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BF0E-0475-40CC-B0E5-590A6C97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8DD5-9ACC-4633-BFB5-49C11F48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D0C1-BC61-4015-8264-304F4A58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899D-A90B-4F79-A1DD-299B6E85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22DD-9C3E-4D42-94F2-5EBF1C2C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2D5-8B53-4C6C-8EFC-61CC85FE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9759-EAFB-4539-8A80-6D1EF62A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EB9A-7703-46F2-A9DB-E8730EFB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5015-3303-421B-91D0-5B4E7B1D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9A7E-27D8-4A95-9022-D3C02299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9667-2FF6-44E0-B2EC-671DAFA9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439-31DA-4CA2-A899-B59C54C9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943-EFA6-46E8-B95C-E27E25AF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8E2-ECAD-403D-A656-1A489F75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B0B-37EB-4CB5-B6C3-CED6AB5D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199-CC3E-4DBD-89B8-834AF7BE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C13-C6B4-44B5-A661-1423B463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D0E-DEAF-41C0-B249-28941A8D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2A7D-58AB-4DF6-A2C6-D8073E50DC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B57F-3637-49BB-AE4E-F5BFFC62A9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8370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 Remnant Shall Retur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8, Lesson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10-1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ch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52560"/>
            <a:ext cx="8229600" cy="6752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276720" y="1295280"/>
            <a:ext cx="2257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e are her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2666880"/>
            <a:ext cx="1143000" cy="1143000"/>
          </a:xfrm>
          <a:prstGeom prst="rect">
            <a:avLst/>
          </a:prstGeom>
          <a:noFill/>
          <a:ln w="5724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648320"/>
            <a:ext cx="2286000" cy="38088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he Book of Malachi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53452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dah is guilty of ritualism and vain formalism – 1:1-2: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riests’ S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y dishonor God’s holy name –  1:6,11,14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y offer polluted sacrifices –  1:7-1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y have forsaken their covenant with God – 2:1-9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d Condemns Judah’s Marital Sins – 2:10-1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are untrue to each other – 2:1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divorce their wives – 2:13-1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marry pagan wives – 2:11-1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he Book of Malachi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essenger of the covenant is predicted –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:17 – 3: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ir present disposition will make them unprepared for the Messia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Call to Repentance – 3:7-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repented – 3:16-1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ce again God promises the day of the Lord –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:1-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d will punish the wicked – 4: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e will be joy for those who see the Sun of Righteousness – 4:2-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ijah (who was John the Baptist) would come first – 4:5-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he Old Testament Records Clos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d still has plans to fulfill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romise to Abraham – Gen.12: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ising up the house of David – Amos 9:11-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essiah will come as predic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1:20:18Z</dcterms:created>
  <dc:creator>Terry W. Benton</dc:creator>
  <dc:description/>
  <dc:language>en-US</dc:language>
  <cp:lastModifiedBy>Frank D Vines</cp:lastModifiedBy>
  <dcterms:modified xsi:type="dcterms:W3CDTF">2006-05-31T15:39:35Z</dcterms:modified>
  <cp:revision>4</cp:revision>
  <dc:subject/>
  <dc:title>A Remnant Shall Return</dc:title>
</cp:coreProperties>
</file>